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7FF0-8D12-4CBF-AB1E-C4E09F2D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E623-B9D4-4E08-A096-79CFB9FA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41BB-5BCB-40E4-9CED-D00C2B3D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A0D8-D92C-4671-AF85-AB6C2F2B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4101-CAAF-4F27-AA5C-2B70BD9E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D7EA-34A4-475C-9D85-BDCD86E8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CFB4-B089-48E7-8FB4-6A42FF64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DF70-F5B0-4F9F-A379-A06CC053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EF17-CE22-4FA4-9F9A-0C239984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ADB1-0BD9-4CF4-BB7B-A7689D78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645E-5BF7-4BD1-986D-0CD6295E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84FC-1034-44B7-B017-CBC0DAEF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4D76-976E-4240-B1B2-78C93CB2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2479-D811-4D30-8614-38DD248F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DB49-91A4-480A-A5E4-4D5D3E3A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43DC-8CFB-4C99-97CB-5649C81E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0724-DAA3-4107-8706-03A92DED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3450-D584-499C-8F63-7D8B2509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2938-75EA-4CE0-859F-EF568F6B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BCC0-ADC4-4F03-9144-7C48D158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E0D8-0B00-48FD-A27F-862CF9A4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58EB-FA00-4841-A408-8A240655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9D14-6A72-4A23-ACB7-539D8504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C31B-DCED-47B3-A590-826C0702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65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SzPct val="70000"/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SzPct val="55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0000"/>
              </a:buClr>
              <a:buSzPct val="55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0000"/>
              </a:buClr>
              <a:buSzPct val="55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61E2-9B3D-4639-B51D-BC4AD4E2D8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3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03FE-0C25-4AD6-9768-31CCC5A064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3"/>
          <a:stretch/>
        </p:blipFill>
        <p:spPr>
          <a:xfrm>
            <a:off x="914400" y="144792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SzPct val="65000"/>
              <a:buFont typeface="Webdings" charset="2"/>
              <a:buChar char="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ffcc00"/>
              </a:buClr>
              <a:buSzPct val="70000"/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349"/>
              </a:spcBef>
              <a:buClr>
                <a:srgbClr val="ffcc00"/>
              </a:buClr>
              <a:buSzPct val="55000"/>
              <a:buFont typeface="Webdings" charset="2"/>
              <a:buChar char="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349"/>
              </a:spcBef>
              <a:buClr>
                <a:srgbClr val="ff0000"/>
              </a:buClr>
              <a:buSzPct val="55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349"/>
              </a:spcBef>
              <a:buClr>
                <a:srgbClr val="ff0000"/>
              </a:buClr>
              <a:buSzPct val="55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1523880"/>
            <a:ext cx="7721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SPOT</a:t>
            </a: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Slide Presentation Over Telephony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23880" y="47242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S 790 Project b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son How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Fin!</a:t>
            </a: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SPOT Presentation Archive</a:t>
            </a: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SzPct val="65000"/>
              <a:buFont typeface="Webdings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ffcc00"/>
              </a:buClr>
              <a:buSzPct val="70000"/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hat is SPOT?</a:t>
            </a: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TX application suite for creating and playing slide presentations with synchronized streaming aud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applic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T Wiz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T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SPOT Features</a:t>
            </a: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extensive use of the ITX telephony pack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both local and remote presentation view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e presentations are created from PowerPoint present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a user to move back and forth within the presentation via an interface similar to that of a CD play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SPOT Wizard</a:t>
            </a: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reate new slide presentations from an existing PowerPoint presen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D player interface is used to navigate through the PowerPoint presen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two fi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D File - Raw Audio Data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M File - Presentation Audio Mapping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SPOT Client</a:t>
            </a: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view the slide presen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lient can view local presentations created by a SPOT Wizard or remote presentations served by a SPOT serv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D player interface is used to navigate through the SPOT presen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SPOT Server</a:t>
            </a: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s a SPOT presentation to a SPOT cli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upport multiple clients simultaneous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the SPOT suite is based on the ITX telephony package, audio can be streamed to the SPOT client machine or to a teleph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How Does It Work?</a:t>
            </a: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3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user surfs the Web to a SPOT Presentation Archive and then downloads a SPOT file, which contains information on all of the SPOT servers that can serve the particular SPOT presentation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user then starts a SPOT cli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2760" y="2133720"/>
            <a:ext cx="4013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POT client uses the SPOT file to present a list of SPOT servers to the user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us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connects to a SPOT server, which then serves a slide presentation with synchronized audio streamed over telephon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The Big Picture</a:t>
            </a: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1509840" y="5634000"/>
            <a:ext cx="106668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OT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2804760" y="4338360"/>
            <a:ext cx="1295280" cy="160020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14600" y="5253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2057400"/>
            <a:ext cx="106668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OT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5319720" y="3195360"/>
            <a:ext cx="1295280" cy="160020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71800" y="3500280"/>
            <a:ext cx="1600200" cy="152424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OT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39040" y="2357280"/>
            <a:ext cx="106668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OT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81840" y="3957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4100000">
            <a:off x="2733480" y="2913840"/>
            <a:ext cx="1447560" cy="30492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51320" y="2705040"/>
            <a:ext cx="21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werPoint file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The Technologies</a:t>
            </a: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werPoint COM Auto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d to power the Wizard and Client GU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D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POT audio file form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M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ains all information needed to playback the slide pres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X Telephony Pack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d to stream audio to either a client machine or teleph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30T03:03:28Z</dcterms:created>
  <dc:creator>Jason Howes</dc:creator>
  <dc:description/>
  <dc:language>en-US</dc:language>
  <cp:lastModifiedBy>Jason Howes</cp:lastModifiedBy>
  <dcterms:modified xsi:type="dcterms:W3CDTF">1999-03-30T20:40:04Z</dcterms:modified>
  <cp:revision>33</cp:revision>
  <dc:subject/>
  <dc:title>SPOT Slide Presentation Over Telephony</dc:title>
</cp:coreProperties>
</file>